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5EEC-F6FE-4D60-B251-80B5E060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6FD6-05BA-4B90-811C-CDB3EA66856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F44-2C3A-4702-BD68-A80BE988A94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518-B602-4CF3-AE0D-DBD63745110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EEBB-A106-496F-892A-2EA9181E6F3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DE0-6D5E-4F40-A2F7-57026FEAAE1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818E-8B12-412F-A273-23C7A60BF5C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E43-E5F3-4E7E-89CA-36C6A599379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12D-98EE-4816-ABB9-62801B12D65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9EFA-7B5E-473C-BD53-1B4A4B8E04C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9BD3-98FC-4099-99EE-E6D355CFFD1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4318-5D53-43BC-99AB-C3D9FB3C202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3DF-8366-46BA-BE0E-C6ABDA3F1ED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046-B07F-4F9E-821E-47998BAAB5F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54D7-85DD-4DD5-8072-B2793BFBE80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4882-89CF-4E49-97F7-97A1CFCBA9E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F95-438B-44B9-8546-24012FF0270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811-CDDD-4AC2-889D-99755F45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5A7-C403-49FA-A598-53F95740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B23-6D0D-43E1-9C82-07285184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77D-8609-4ABB-898B-7B7E0D69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3100-0B77-442A-847C-004E22C9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585A-67A5-4267-9B7C-AC8FE4C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3CB-B304-4435-804F-9F3C159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FFCE-8C54-4191-934B-7739AFE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B0D6-519C-4490-94FE-CFDBB1F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850-D31B-4430-9DA1-DFF80274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2B21-E6C9-49D2-9221-0341055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403-779A-49E5-B318-9B4503EF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7076-A775-48A9-8B65-121730B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0E62-75E9-4DC7-8181-4E848EB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7BC5-E520-45F2-A2D8-0C54646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B7F-9734-44C6-A68A-2AC7EE34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BD10-A953-41F3-BD7A-980AF536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B0C-E342-4FD9-AB75-3653029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068-1D5F-45B8-8C85-C34F4C40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7EA-0602-4630-BFFC-92339C4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126-D170-4D33-8EF7-E22D4D81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C0D-52EF-41B9-986C-41FD8841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074-E9C5-41E7-A55B-EC8A6151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810-B36D-4BC7-99C4-DAEB9C41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759-F197-4915-8EE6-F6B1EE1EF0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C26B-E841-473E-A2CA-343D622007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9520" y="1269360"/>
            <a:ext cx="84337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Garamond"/>
              </a:rPr>
              <a:t>The Brave New World of Common Core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66652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Brandon Zaslo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aramond"/>
              </a:rPr>
              <a:t>Department of Edu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Garamond"/>
              </a:rPr>
              <a:t>Occidental Colle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724280" y="5257800"/>
            <a:ext cx="401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Garamond"/>
              </a:rPr>
              <a:t>Los Angeles Area Site of the California World Language Pro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Garamond"/>
              </a:rPr>
              <a:t>http://www.la-stars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 4" descr=""/>
          <p:cNvPicPr/>
          <p:nvPr/>
        </p:nvPicPr>
        <p:blipFill>
          <a:blip r:embed="rId1"/>
          <a:stretch/>
        </p:blipFill>
        <p:spPr>
          <a:xfrm>
            <a:off x="208080" y="665280"/>
            <a:ext cx="8716680" cy="1749240"/>
          </a:xfrm>
          <a:prstGeom prst="rect">
            <a:avLst/>
          </a:prstGeom>
          <a:ln w="0">
            <a:noFill/>
          </a:ln>
        </p:spPr>
      </p:pic>
      <p:pic>
        <p:nvPicPr>
          <p:cNvPr id="151" name="Table 5" descr=""/>
          <p:cNvPicPr/>
          <p:nvPr/>
        </p:nvPicPr>
        <p:blipFill>
          <a:blip r:embed="rId2"/>
          <a:stretch/>
        </p:blipFill>
        <p:spPr>
          <a:xfrm>
            <a:off x="208080" y="25718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Writ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Table 7" descr=""/>
          <p:cNvPicPr/>
          <p:nvPr/>
        </p:nvPicPr>
        <p:blipFill>
          <a:blip r:embed="rId3"/>
          <a:stretch/>
        </p:blipFill>
        <p:spPr>
          <a:xfrm>
            <a:off x="208080" y="4475160"/>
            <a:ext cx="8716680" cy="1749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2"/>
          <p:cNvSpPr/>
          <p:nvPr/>
        </p:nvSpPr>
        <p:spPr>
          <a:xfrm>
            <a:off x="838080" y="6477120"/>
            <a:ext cx="464832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able 4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9209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Writ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able 11" descr=""/>
          <p:cNvPicPr/>
          <p:nvPr/>
        </p:nvPicPr>
        <p:blipFill>
          <a:blip r:embed="rId1"/>
          <a:stretch/>
        </p:blipFill>
        <p:spPr>
          <a:xfrm>
            <a:off x="208080" y="2646360"/>
            <a:ext cx="8716680" cy="19256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Speaking/Listening (2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Table 8" descr=""/>
          <p:cNvPicPr/>
          <p:nvPr/>
        </p:nvPicPr>
        <p:blipFill>
          <a:blip r:embed="rId2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"/>
          <p:cNvSpPr/>
          <p:nvPr/>
        </p:nvSpPr>
        <p:spPr>
          <a:xfrm>
            <a:off x="762120" y="640080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able 4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pic>
        <p:nvPicPr>
          <p:cNvPr id="163" name="Table 5" descr=""/>
          <p:cNvPicPr/>
          <p:nvPr/>
        </p:nvPicPr>
        <p:blipFill>
          <a:blip r:embed="rId2"/>
          <a:stretch/>
        </p:blipFill>
        <p:spPr>
          <a:xfrm>
            <a:off x="208080" y="2646360"/>
            <a:ext cx="8716680" cy="19922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Language (3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762120" y="640080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able 11" descr=""/>
          <p:cNvPicPr/>
          <p:nvPr/>
        </p:nvPicPr>
        <p:blipFill>
          <a:blip r:embed="rId1"/>
          <a:stretch/>
        </p:blipFill>
        <p:spPr>
          <a:xfrm>
            <a:off x="208080" y="682560"/>
            <a:ext cx="8716680" cy="29941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Language (3 Domains, 6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Common Core Standards: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Setting Reasonable Goal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Diagram 8" descr=""/>
          <p:cNvPicPr/>
          <p:nvPr/>
        </p:nvPicPr>
        <p:blipFill>
          <a:blip r:embed="rId1"/>
          <a:stretch/>
        </p:blipFill>
        <p:spPr>
          <a:xfrm>
            <a:off x="-457200" y="2316240"/>
            <a:ext cx="10045800" cy="4608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533520" y="2362320"/>
            <a:ext cx="373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Key Ideas and Detail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raft and Structur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Integration of Knowledge and Idea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ange of Reading and Level of Text Complexity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191120" y="2286000"/>
            <a:ext cx="373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Text Types and Purpose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Production and Distribution of Writing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esearch to Build and Present Knowled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Range of Writing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533520" y="6012000"/>
            <a:ext cx="3733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omprehension and Collaboration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Presentation of Knowledge and Ideas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4267080" y="6012000"/>
            <a:ext cx="3733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Conventions of Standard Langua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Knowledge of Languag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Arial"/>
              </a:rPr>
              <a:t>Vocabulary Acquisition and Us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Working with Authentic, Informative Text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1143000" y="2438280"/>
            <a:ext cx="259092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1) Select an authentic, informative tex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886200" y="2438280"/>
            <a:ext cx="220968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2) Determine the purpose of the tex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914400" y="3276720"/>
            <a:ext cx="5181480" cy="25628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3) Determine the communicative proficiency necessary to comprehend the text according to its purpos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vice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ords, phrases, formul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mediate: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entences/strings of sente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vanced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aragraphs/strings of paragraph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uperior: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ohesive multi-paragraph tex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248520" y="2514600"/>
            <a:ext cx="2666880" cy="11912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4) Create questions to ensure  comprehension of the text according to its purpose (evidenc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6248520" y="3886200"/>
            <a:ext cx="2361960" cy="64260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5) Create activities with the ques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6248520" y="4667400"/>
            <a:ext cx="2743200" cy="1191240"/>
          </a:xfrm>
          <a:prstGeom prst="rect">
            <a:avLst/>
          </a:prstGeom>
          <a:solidFill>
            <a:srgbClr val="99cc99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6) Use the purpose       of the text to formulate culminating written task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A Thinking Continuum: Bloom’s Taxonom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Diagram 4" descr=""/>
          <p:cNvPicPr/>
          <p:nvPr/>
        </p:nvPicPr>
        <p:blipFill>
          <a:blip r:embed="rId1"/>
          <a:stretch/>
        </p:blipFill>
        <p:spPr>
          <a:xfrm>
            <a:off x="719280" y="2341440"/>
            <a:ext cx="4279680" cy="443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648320" y="2362320"/>
          <a:ext cx="3886200" cy="198108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</a:tblGrid>
              <a:tr h="85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Bloom’s Think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Continu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ssimilation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cquisi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</a:tbl>
          </a:graphicData>
        </a:graphic>
      </p:graphicFrame>
      <p:sp>
        <p:nvSpPr>
          <p:cNvPr id="108" name="Up Arrow 12"/>
          <p:cNvSpPr/>
          <p:nvPr/>
        </p:nvSpPr>
        <p:spPr>
          <a:xfrm>
            <a:off x="7238880" y="327672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4800600" y="4494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ow end of this continuum involves acquiring knowledge and being able to locate or recall that knowledg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 the upper end of the continuum, knowledge is fully integrated in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d in logical and creative way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A Continuum of Action: Daggett’s Taxonom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Diagram 4" descr=""/>
          <p:cNvPicPr/>
          <p:nvPr/>
        </p:nvPicPr>
        <p:blipFill>
          <a:blip r:embed="rId1"/>
          <a:stretch/>
        </p:blipFill>
        <p:spPr>
          <a:xfrm>
            <a:off x="933480" y="2481120"/>
            <a:ext cx="3619440" cy="422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724280" y="2438280"/>
          <a:ext cx="3886200" cy="1981440"/>
        </p:xfrm>
        <a:graphic>
          <a:graphicData uri="http://schemas.openxmlformats.org/drawingml/2006/table">
            <a:tbl>
              <a:tblPr/>
              <a:tblGrid>
                <a:gridCol w="1524240"/>
                <a:gridCol w="2361960"/>
              </a:tblGrid>
              <a:tr h="855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Daggett’s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Continu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Acquisi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2a56"/>
                          </a:solidFill>
                          <a:latin typeface="Arial Narrow"/>
                        </a:rPr>
                        <a:t>of Knowled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e0a1"/>
                    </a:solidFill>
                  </a:tcPr>
                </a:tc>
              </a:tr>
            </a:tbl>
          </a:graphicData>
        </a:graphic>
      </p:graphicFrame>
      <p:sp>
        <p:nvSpPr>
          <p:cNvPr id="114" name="Up Arrow 12"/>
          <p:cNvSpPr/>
          <p:nvPr/>
        </p:nvSpPr>
        <p:spPr>
          <a:xfrm>
            <a:off x="7315200" y="327672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4648320" y="4494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low end of this continuum involves acquiring knowledge for its own sak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upper end of this continuum involves the use of knowledge to solve complex, real-world problems and to create works for use in real-world situat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Diagram 8" descr=""/>
          <p:cNvPicPr/>
          <p:nvPr/>
        </p:nvPicPr>
        <p:blipFill>
          <a:blip r:embed="rId1"/>
          <a:stretch/>
        </p:blipFill>
        <p:spPr>
          <a:xfrm>
            <a:off x="1292400" y="1809720"/>
            <a:ext cx="8845200" cy="3968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057400" y="2362320"/>
            <a:ext cx="1523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6 Crea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5 Evalua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4 Analyz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3 Apply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 Understand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 Recall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200400" y="48960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1                    2                    3                      4                       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cquire         Apply            Apply              Apply                Appl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knowledge    knowledge   knowledge     knowledge       knowled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in one            in one           across            to real-world    to real-worl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iscipline      discipline     disciplines     predictable      unpredictab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situations        situa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219320" y="2382840"/>
            <a:ext cx="609480" cy="420876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276720" y="6172200"/>
            <a:ext cx="335268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LEVANCE • APPLI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Diagram 8" descr=""/>
          <p:cNvPicPr/>
          <p:nvPr/>
        </p:nvPicPr>
        <p:blipFill>
          <a:blip r:embed="rId1"/>
          <a:stretch/>
        </p:blipFill>
        <p:spPr>
          <a:xfrm>
            <a:off x="-457200" y="2243160"/>
            <a:ext cx="10045800" cy="4602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124080" y="2525760"/>
            <a:ext cx="289584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FOUR QUADR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6666"/>
                </a:solidFill>
                <a:latin typeface="Garamond"/>
              </a:rPr>
              <a:t>Rigor-Relevance Framework </a:t>
            </a:r>
            <a:br>
              <a:rPr sz="3500"/>
            </a:b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(International Center for Leadership in Education)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4800600" y="4572000"/>
            <a:ext cx="3809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Diagram 8" descr=""/>
          <p:cNvPicPr/>
          <p:nvPr/>
        </p:nvPicPr>
        <p:blipFill>
          <a:blip r:embed="rId1"/>
          <a:stretch/>
        </p:blipFill>
        <p:spPr>
          <a:xfrm>
            <a:off x="-457200" y="2316240"/>
            <a:ext cx="10045800" cy="4608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2438280" y="2525760"/>
            <a:ext cx="4267440" cy="368280"/>
          </a:xfrm>
          <a:prstGeom prst="rect">
            <a:avLst/>
          </a:prstGeom>
          <a:noFill/>
          <a:ln w="9360">
            <a:solidFill>
              <a:srgbClr val="00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CHNICAL READING AND WRI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6666"/>
                </a:solidFill>
                <a:latin typeface="Garamond"/>
              </a:rPr>
              <a:t>Stages of Student Proficiency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3657600" y="152280"/>
            <a:ext cx="4648320" cy="3812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Table 1" descr=""/>
          <p:cNvPicPr/>
          <p:nvPr/>
        </p:nvPicPr>
        <p:blipFill>
          <a:blip r:embed="rId1"/>
          <a:stretch/>
        </p:blipFill>
        <p:spPr>
          <a:xfrm>
            <a:off x="2955960" y="2955960"/>
            <a:ext cx="2012760" cy="2732040"/>
          </a:xfrm>
          <a:prstGeom prst="rect">
            <a:avLst/>
          </a:prstGeom>
          <a:ln w="0">
            <a:noFill/>
          </a:ln>
        </p:spPr>
      </p:pic>
      <p:pic>
        <p:nvPicPr>
          <p:cNvPr id="139" name="Table 6" descr=""/>
          <p:cNvPicPr/>
          <p:nvPr/>
        </p:nvPicPr>
        <p:blipFill>
          <a:blip r:embed="rId2"/>
          <a:stretch/>
        </p:blipFill>
        <p:spPr>
          <a:xfrm>
            <a:off x="4937040" y="2955960"/>
            <a:ext cx="2013120" cy="2732040"/>
          </a:xfrm>
          <a:prstGeom prst="rect">
            <a:avLst/>
          </a:prstGeom>
          <a:ln w="0">
            <a:noFill/>
          </a:ln>
        </p:spPr>
      </p:pic>
      <p:pic>
        <p:nvPicPr>
          <p:cNvPr id="140" name="Table 7" descr=""/>
          <p:cNvPicPr/>
          <p:nvPr/>
        </p:nvPicPr>
        <p:blipFill>
          <a:blip r:embed="rId3"/>
          <a:stretch/>
        </p:blipFill>
        <p:spPr>
          <a:xfrm>
            <a:off x="6918480" y="2955960"/>
            <a:ext cx="2012760" cy="2732040"/>
          </a:xfrm>
          <a:prstGeom prst="rect">
            <a:avLst/>
          </a:prstGeom>
          <a:ln w="0">
            <a:noFill/>
          </a:ln>
        </p:spPr>
      </p:pic>
      <p:pic>
        <p:nvPicPr>
          <p:cNvPr id="141" name="Table 8" descr=""/>
          <p:cNvPicPr/>
          <p:nvPr/>
        </p:nvPicPr>
        <p:blipFill>
          <a:blip r:embed="rId4"/>
          <a:stretch/>
        </p:blipFill>
        <p:spPr>
          <a:xfrm>
            <a:off x="974880" y="2955960"/>
            <a:ext cx="2012760" cy="27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able 11" descr=""/>
          <p:cNvPicPr/>
          <p:nvPr/>
        </p:nvPicPr>
        <p:blipFill>
          <a:blip r:embed="rId1"/>
          <a:stretch/>
        </p:blipFill>
        <p:spPr>
          <a:xfrm>
            <a:off x="208080" y="665280"/>
            <a:ext cx="8716680" cy="1925640"/>
          </a:xfrm>
          <a:prstGeom prst="rect">
            <a:avLst/>
          </a:prstGeom>
          <a:ln w="0">
            <a:noFill/>
          </a:ln>
        </p:spPr>
      </p:pic>
      <p:pic>
        <p:nvPicPr>
          <p:cNvPr id="143" name="Table 4" descr=""/>
          <p:cNvPicPr/>
          <p:nvPr/>
        </p:nvPicPr>
        <p:blipFill>
          <a:blip r:embed="rId2"/>
          <a:stretch/>
        </p:blipFill>
        <p:spPr>
          <a:xfrm>
            <a:off x="208080" y="2724120"/>
            <a:ext cx="8716680" cy="1920960"/>
          </a:xfrm>
          <a:prstGeom prst="rect">
            <a:avLst/>
          </a:prstGeom>
          <a:ln w="0">
            <a:noFill/>
          </a:ln>
        </p:spPr>
      </p:pic>
      <p:pic>
        <p:nvPicPr>
          <p:cNvPr id="144" name="Table 5" descr=""/>
          <p:cNvPicPr/>
          <p:nvPr/>
        </p:nvPicPr>
        <p:blipFill>
          <a:blip r:embed="rId3"/>
          <a:stretch/>
        </p:blipFill>
        <p:spPr>
          <a:xfrm>
            <a:off x="208080" y="4780080"/>
            <a:ext cx="8716680" cy="17492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2"/>
          <p:cNvSpPr/>
          <p:nvPr/>
        </p:nvSpPr>
        <p:spPr>
          <a:xfrm>
            <a:off x="0" y="38160"/>
            <a:ext cx="89154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Read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able 11" descr=""/>
          <p:cNvPicPr/>
          <p:nvPr/>
        </p:nvPicPr>
        <p:blipFill>
          <a:blip r:embed="rId1"/>
          <a:stretch/>
        </p:blipFill>
        <p:spPr>
          <a:xfrm>
            <a:off x="208080" y="743040"/>
            <a:ext cx="8716680" cy="17445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"/>
          <p:cNvSpPr/>
          <p:nvPr/>
        </p:nvSpPr>
        <p:spPr>
          <a:xfrm>
            <a:off x="0" y="38160"/>
            <a:ext cx="883908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66"/>
                </a:solidFill>
                <a:latin typeface="Garamond"/>
              </a:rPr>
              <a:t>Common Core Standards: </a:t>
            </a:r>
            <a:r>
              <a:rPr b="1" i="1" lang="en-US" sz="2700" spc="-1" strike="noStrike">
                <a:solidFill>
                  <a:srgbClr val="196666"/>
                </a:solidFill>
                <a:latin typeface="Garamond"/>
              </a:rPr>
              <a:t>Reading (4 Domains, 10 Standard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762120" y="6477120"/>
            <a:ext cx="464796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66"/>
                </a:solidFill>
                <a:latin typeface="Garamond"/>
              </a:rPr>
              <a:t>Brandon Zaslow • California World Language Project • 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7:25:50Z</dcterms:created>
  <dc:creator>Mary Rose Peralta</dc:creator>
  <dc:description/>
  <dc:language>en-US</dc:language>
  <cp:lastModifiedBy>Brandon Zaslow</cp:lastModifiedBy>
  <cp:lastPrinted>2011-07-10T19:08:19Z</cp:lastPrinted>
  <dcterms:modified xsi:type="dcterms:W3CDTF">2013-07-18T17:26:35Z</dcterms:modified>
  <cp:revision>248</cp:revision>
  <dc:subject/>
  <dc:title>Developing and Preserving a Less Commonly Taught Language</dc:title>
</cp:coreProperties>
</file>